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691-F43C-4A9F-8F16-81D31C06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657-A6D6-460F-A99F-132F8E1D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82D-B790-42A7-B431-B67916A6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DC3-0365-4098-8BC7-BB81550A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69-A825-418E-B65B-C6A2F989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A33-BE68-4392-8571-AF3761D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2F9-4593-4BD9-ABF8-59161A0C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977-CABD-4F15-AE59-978FD11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32D-C08A-4C9B-AE25-C18C117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25D-A23B-4224-83AB-E0F0CB6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ABF-E84B-4C12-A5FA-E2E9FCD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493-3ECB-40F6-87DF-153DDAB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D805E55B-54E8-4165-A298-0FCBFDCDC2DB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511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January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81120"/>
            <a:ext cx="695340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ome basics about ‘MEP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1B7-CA6E-4F08-908E-20B5F5BFB2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059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 KIC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BE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AFT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L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is defin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irement Release - Design freez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mplementation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Synchronization Integration Point (S 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Integration Point (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1 Module Operable in Basic Func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Functional Sample (B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Prototype Device B1+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ales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 for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art - Release for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pproval Sta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K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turity of Key Applicatio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livery Start - limited release for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3/S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nlimited Release for Market / Development Project finish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 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ART RAMP-DOW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MP DOWN STRATEGY FIX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F/V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OP, SALES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ERVICE STOP, PRODUCT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02B-A6D5-4B93-9DB8-364EE14F47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Checkpoints statis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600" y="1690560"/>
            <a:ext cx="8923320" cy="21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62D-57FA-4BDF-B41F-0A1F92CB5B7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istory IPO/ME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4680" y="764640"/>
            <a:ext cx="8037720" cy="25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d to late 90s: IPO (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tegriert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zess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dnu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scrib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rganizational framework / Team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cess / task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s accompanying 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milestone checklist: ME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(Meilensteinergebnisse in der Produktentwicklung / Milestone Execution Plan)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 purpose: Synchronization between involved func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920" y="3328920"/>
          <a:ext cx="691992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3328920"/>
                    <a:ext cx="69199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A1D-6E91-41C5-A6C4-B43B360838D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oda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040" y="947520"/>
            <a:ext cx="8477280" cy="53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PO almost unknown. MEP is seen as ‘The Process’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n parallel: ‘PLM-picture’, organization and role description on the intran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s were added: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k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PS, DS, AS, MK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rom MEP 6-&gt;MEP 7: increased number of checkpoi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ome complaints: too complex / too much / too vague / too imprecise / un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Ownership of MEP changed frequently. Today: IT P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hecklist responsible assigned per func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teps: R&amp;D-driven (+TPM) (E03/2006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of product classes I-IV. R&amp;D not driving entire MEP adap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daptation to new Org (espc. TPM -&gt; roles TPM / TPM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3F9-80B6-4DED-8820-56A6CFEE58A4}" type="slidenum">
              <a:t>3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Pros and cons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11160"/>
            <a:ext cx="38815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Guideline through proje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rehensive documentation (also for newcomer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greement between all project play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need for re-inventing the whe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flects ‘best practices’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pen for chang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62400" y="968400"/>
            <a:ext cx="4641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is 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ailoring-option almost unknown/not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o complex, big, .., unclear compl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ording (e.g. requ./feature, fixed/final/rele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ix of generic/quantitativ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Word document -&gt; better Excel or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igning of milest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cedure: Everybody wants to sign….. No clear and simple responsib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Paper/Fax, manu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33960" y="1011240"/>
            <a:ext cx="0" cy="479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B0E-8E19-442E-8E6D-886BBD09DF03}" type="slidenum">
              <a:t>4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me fig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58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ast release V 7.01, 07/2005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(160 pages, herder: 8p, ‘process’, teams, responsibilities: 12p, checkpoints:113p, MS declarations 27p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0 disciplines/functions/teams (8 are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3 milestones, 19 immediately relevant for R&amp;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0-M3/S4 (16MS): ~1800 checkpoints for all discipli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check items M0-M3/S4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653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peak at M0, M1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W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(343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8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7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5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4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chanic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71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oftwar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3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 Test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5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ject Management (~TPM-R&amp;D)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1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E06-5AC8-4E70-80CB-5E15D38AC5CC}" type="slidenum">
              <a:t>5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ToDo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2011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class adaptation (running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lected ‘Cons’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daptation to agile develop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HE&lt;-&gt;PHA process synchron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879-10A2-4864-8D84-03EFAE7DF448}" type="slidenum">
              <a:t>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Questions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80028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83B-D05F-49B7-A0B3-AC8AF91093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AFF-7F3E-481D-9962-35078557D4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Functions/Disciplines/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oadmap Defini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nci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finition and Industrial Desig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pply Chain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Material Quality and Technical Capabi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ke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stomer C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curement Enginee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velop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echan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957-1253-43E4-BD71-BE2CCEE9E3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Uwe Schmitz</dc:creator>
  <dc:description/>
  <dc:language>en-US</dc:language>
  <cp:lastModifiedBy>SchmitzU</cp:lastModifiedBy>
  <dcterms:modified xsi:type="dcterms:W3CDTF">2006-01-30T08:34:47Z</dcterms:modified>
  <cp:revision>365</cp:revision>
  <dc:subject/>
  <dc:title>MEP intro</dc:title>
</cp:coreProperties>
</file>